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48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47680" y="9377280"/>
            <a:ext cx="2948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907-B242-4BAE-B121-224FA9E050B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rrin already a great school, but easy for decile 10 school to just ‘chug along’ resting on its good re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rom what I understand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‘visioning’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facilitator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has taken place at Mer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HERE DO WE WANT TO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 vision gives shape to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ongoing development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learning culture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…..doesn’t mean you throw out the’old’ (keep the good stu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flects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ollective thinking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and negoti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ll share in it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……parents/caregivers, teachers, support staff, BOT, community, student reps.    Working co-operatively to grow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fore the visioning, what kind of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‘exploration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’ took place: professional   reading, MOE evidence-base, MOE initiatives, NAGS &amp; NEGS, NEMP, visits to other schools, try some new ways of working (generally low risk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Vision needs revisiting…….all need reminding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HANGE IS A JOURNEY, NOT A BLUE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ra of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rapi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’s world: family structures changed, more women in workforce, families move more frequ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hildren’s future –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orkplace different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– emphasis in different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10 skills most desired by industrial emplo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(Coviello &amp; Kirk      Waikato University 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learn on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Problem solv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ritten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Oral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work as a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nalytic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Ability to work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Willingness to accept new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Theoretical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Basic technical skil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imilar lists found elsewhere, but this list is in language we can all understand.  These are attributes which will be needed by our children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ruce Hammonds is a principal in Nth Canterbury.  Along with another Nth Cant principal, Dave Doake, awarded a Principals’ Fellowship to study ‘best practice’ in N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s it a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0E0-03C4-4349-BD1E-B6E0AEED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4D6-46DB-4136-9D43-5E2D3B94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49E-1279-4013-B818-83EB4E8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30A-A562-4B2A-8283-E9F381AA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F4D-ECB4-44A8-9601-7F057EB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61B-DF71-4048-8BE6-CFDE7C0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7A7-7761-4444-98FD-AC2B7D4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C8C-7D96-46B2-85E8-E63AD6D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15A-763F-437E-BAD8-EB4E96D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DC5-F2E9-425F-B43F-D9B16738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42B-5A72-4D85-927B-58D2490E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92B-810B-468D-9D96-F729D75C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35000" y="692280"/>
            <a:ext cx="9009000" cy="1052280"/>
            <a:chOff x="135000" y="692280"/>
            <a:chExt cx="9009000" cy="1052280"/>
          </a:xfrm>
        </p:grpSpPr>
        <p:grpSp>
          <p:nvGrpSpPr>
            <p:cNvPr id="39" name=""/>
            <p:cNvGrpSpPr/>
            <p:nvPr/>
          </p:nvGrpSpPr>
          <p:grpSpPr>
            <a:xfrm>
              <a:off x="425520" y="799920"/>
              <a:ext cx="711360" cy="474480"/>
              <a:chOff x="425520" y="799920"/>
              <a:chExt cx="711360" cy="474480"/>
            </a:xfrm>
          </p:grpSpPr>
          <p:sp>
            <p:nvSpPr>
              <p:cNvPr id="40" name=""/>
              <p:cNvSpPr/>
              <p:nvPr/>
            </p:nvSpPr>
            <p:spPr>
              <a:xfrm>
                <a:off x="425520" y="79992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8560" y="799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549360" y="1222200"/>
              <a:ext cx="737640" cy="474480"/>
              <a:chOff x="549360" y="1222200"/>
              <a:chExt cx="737640" cy="474480"/>
            </a:xfrm>
          </p:grpSpPr>
          <p:sp>
            <p:nvSpPr>
              <p:cNvPr id="43" name=""/>
              <p:cNvSpPr/>
              <p:nvPr/>
            </p:nvSpPr>
            <p:spPr>
              <a:xfrm>
                <a:off x="549360" y="122220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18000" y="122220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135000" y="114912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0040" y="692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51080" y="151344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BC33-3628-4E6A-B63E-D9326EDDEE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201080" cy="112680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If you don’t know where you are going, any bus will take you the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658360" cy="117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92280"/>
            <a:ext cx="5076720" cy="64908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79840" y="27612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7650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 the Beginning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2200" y="2795760"/>
            <a:ext cx="794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080" y="2924280"/>
            <a:ext cx="9020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ow ICT tool skill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Staff lacking confidence to try using new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Very few using learning intentions and success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few staff were experimenting with thinking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Some staff experimenting with Inquiry Learn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No progress made to implementing the new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ack of ICT tools/hardware for staff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Classes using more of a ‘ three week unit’ approach to their 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CT Suite used for mainly word processing and ran only basic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ack of shared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No whole school collaborative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588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at’s new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Each teacher now has their own digital came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Seven MP3 players purchased to be trialled used in conjunction with the data projecto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wo digital movie cameras have been purchas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12 out of 16 classes have a data project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he hall and staffroom now have a data projector install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We have subscribed to Knowledge Net and staff are developing class pag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New software such as Comic Life has been installed in the Computer Sui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here is a suggested list of software at set levels which children should be exposed to. ICT Bluepr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Techie Breakies have been hel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Resources have been purchased in PDF format and stored in the common driv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Hardcopy resources have been purchased and are stored in a central loc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Tahoma"/>
              </a:rPr>
              <a:t>A new photocopier has been purchased with scanning capabilit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46436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Community and school wide consultation on the 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Joined Knowledge Net and developed ‘experts’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Experimented with think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Worked with advisors on Inquiry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Professional Development began on unpacking the draft Currciul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Principal and ICT Lead Teacher attended Learning@Scho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All staff involved in ICT upskilling via th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Tahoma"/>
              </a:rPr>
              <a:t>Four staff undertook UC pap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001080" cy="1224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-360" y="691920"/>
            <a:ext cx="5543640" cy="64764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First Year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16000" y="1915920"/>
            <a:ext cx="6840720" cy="432108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Half of the staff attended ULearn 2008 and shared their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Listened to a variety of Educational experts e.g. Habits of Mind – Art Costa &amp; Karen Boyes, Jamie McKenz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Developed Classroom Manager repor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ICT tools integrated into some classroom programm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Knowledge Net professional develop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Sharing time of 21</a:t>
            </a:r>
            <a:r>
              <a:rPr b="0" lang="en-NZ" sz="18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NZ" sz="1800" spc="-1" strike="noStrike">
                <a:solidFill>
                  <a:srgbClr val="333399"/>
                </a:solidFill>
                <a:latin typeface="Tahoma"/>
              </a:rPr>
              <a:t> Century Lear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64072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-360" y="836280"/>
            <a:ext cx="6227640" cy="639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The Second Year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588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ere are we now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taff now accessing online resources e.g. Digistore, BBC sites, ICT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hildren using digital still and movie cameras as well as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he sound system and data projector is now used for all 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t thinking maps have been decide and are in the process of being reproduced for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Merrin School  hosted the TIGed course.  Ajoint venture between CORE and the MO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ome staff are using Blooms Taxonomy to focus on the HO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hree staff attending ULearn and two attending the Pre-conference d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A staff member trialling a tablet with a data project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Regular sharing time in staff meetings for current ICT tools and teaching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c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8821800" cy="1199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6012000" cy="720720"/>
          </a:xfrm>
          <a:prstGeom prst="rect">
            <a:avLst/>
          </a:prstGeom>
          <a:solidFill>
            <a:srgbClr val="38c8c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Where to nex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Visuals to be developed for each classroom around th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Visual metaphor to be devel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Using Knowledge Net to its full potent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ompleting the Merrin Inquiry Model and trialling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Trialling the backward planning design model and developing our 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Co-constructing rubrics with child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Re-visioning process with the BOT starting end of term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We hope to be accepted on to the Literacy Con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Looking at how the HOM, the KC’s and the values fit into Merrin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Investigating accessing SNUP through different ag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9:00:53Z</dcterms:created>
  <dc:creator>lesley black</dc:creator>
  <dc:description/>
  <dc:language>en-US</dc:language>
  <cp:lastModifiedBy>User</cp:lastModifiedBy>
  <dcterms:modified xsi:type="dcterms:W3CDTF">2009-11-02T00:52:25Z</dcterms:modified>
  <cp:revision>33</cp:revision>
  <dc:subject/>
  <dc:title>Our Children First to the Future</dc:title>
</cp:coreProperties>
</file>